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ED36-28FC-4561-B6D6-E3E83B2E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2DA3-61A2-4005-BC1B-650096C0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8DD-BF05-4B2B-84F4-7D056FF8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0D46-92E0-4B4D-9EAA-CFA6740E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3FC6-3D8E-4633-B1D9-B2FF9628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A696-B6AC-47C0-8742-374BA3BC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6F0-6920-4CE4-AF3C-819D7294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4F7B-B872-4FAE-817A-D19E3038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BD18-67AD-431A-A4AC-AF175D86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0BFE-1D8F-4CE1-B955-EC5E255C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BEA3-AA37-4A3A-8AE1-F4F1FF78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A6FD-5D9A-40B9-B616-C39BDC64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251C-C16D-41A0-99DB-01A250E035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athcentre.ac.uk/types/facts-and-formulae-leaflets/onscreenleaflets/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thstore.ac.uk/index.php?pid=42" TargetMode="External"/><Relationship Id="rId2" Type="http://schemas.openxmlformats.org/officeDocument/2006/relationships/hyperlink" Target="http://www.mathcentre.ac.uk/resources/exercisebooks/mathcentre/final0502-calc-ref-ukmlsc.pdf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athcentre.ac.uk/" TargetMode="External"/><Relationship Id="rId2" Type="http://schemas.openxmlformats.org/officeDocument/2006/relationships/hyperlink" Target="http://www.mathcentre.ac.uk/" TargetMode="External"/><Relationship Id="rId3" Type="http://schemas.openxmlformats.org/officeDocument/2006/relationships/hyperlink" Target="http://www.mathtutor.ac.uk/" TargetMode="External"/><Relationship Id="rId4" Type="http://schemas.openxmlformats.org/officeDocument/2006/relationships/hyperlink" Target="http://www.mathtutor.ac.uk/" TargetMode="External"/><Relationship Id="rId5" Type="http://schemas.openxmlformats.org/officeDocument/2006/relationships/hyperlink" Target="http://www.statstutor.ac.uk/" TargetMode="External"/><Relationship Id="rId6" Type="http://schemas.openxmlformats.org/officeDocument/2006/relationships/hyperlink" Target="http://www.statstutor.ac.uk/" TargetMode="External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ocw.mit.edu/courses/mathematics/" TargetMode="External"/><Relationship Id="rId2" Type="http://schemas.openxmlformats.org/officeDocument/2006/relationships/hyperlink" Target="http://ocw.mit.edu/courses/mathematics/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tats.gla.ac.uk/steps/glossary/alphabet.html" TargetMode="External"/><Relationship Id="rId2" Type="http://schemas.openxmlformats.org/officeDocument/2006/relationships/hyperlink" Target="https://oldwww.math.ucdavis.edu/glossary.html" TargetMode="External"/><Relationship Id="rId3" Type="http://schemas.openxmlformats.org/officeDocument/2006/relationships/hyperlink" Target="http://www.math.ucdavis.edu/profiles/glossary.html" TargetMode="External"/><Relationship Id="rId4" Type="http://schemas.openxmlformats.org/officeDocument/2006/relationships/image" Target="../media/image10.png"/><Relationship Id="rId5" Type="http://schemas.openxmlformats.org/officeDocument/2006/relationships/hyperlink" Target="http://www.stats.gla.ac.uk/steps/glossary/alphabet.html" TargetMode="External"/><Relationship Id="rId6" Type="http://schemas.openxmlformats.org/officeDocument/2006/relationships/image" Target="../media/image11.pn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eogebra.org/" TargetMode="External"/><Relationship Id="rId2" Type="http://schemas.openxmlformats.org/officeDocument/2006/relationships/hyperlink" Target="http://www.geogebra.org/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s for Mathematics Support Tu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22928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22424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26708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96720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sigma logo print.jpeg"/>
          <p:cNvPicPr/>
          <p:nvPr/>
        </p:nvPicPr>
        <p:blipFill>
          <a:blip r:embed="rId1"/>
          <a:stretch/>
        </p:blipFill>
        <p:spPr>
          <a:xfrm>
            <a:off x="5935680" y="6093000"/>
            <a:ext cx="32115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mething interesting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History of Mathematics Arch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http://www-history.mcs.st-and.ac.uk/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6076800" cy="792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sigma logo print.jpeg"/>
          <p:cNvPicPr/>
          <p:nvPr/>
        </p:nvPicPr>
        <p:blipFill>
          <a:blip r:embed="rId2"/>
          <a:stretch/>
        </p:blipFill>
        <p:spPr>
          <a:xfrm>
            <a:off x="5935680" y="6093000"/>
            <a:ext cx="32115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mployer recruitment t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versity of K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ttp://www.kent.ac.uk/careers/tests/mathstest.ht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ining and Development Agency (TD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education.gov.uk/sta/professional/b00211213/numera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sigma logo print.jpeg"/>
          <p:cNvPicPr/>
          <p:nvPr/>
        </p:nvPicPr>
        <p:blipFill>
          <a:blip r:embed="rId1"/>
          <a:stretch/>
        </p:blipFill>
        <p:spPr>
          <a:xfrm>
            <a:off x="5935680" y="6093000"/>
            <a:ext cx="32115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wi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mathsupport.mas.ncl.ac.uk/wiki/Main_Pag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sigma logo print.jpeg"/>
          <p:cNvPicPr/>
          <p:nvPr/>
        </p:nvPicPr>
        <p:blipFill>
          <a:blip r:embed="rId1"/>
          <a:stretch/>
        </p:blipFill>
        <p:spPr>
          <a:xfrm>
            <a:off x="5935680" y="6093000"/>
            <a:ext cx="3211560" cy="765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3060720" cy="719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3"/>
          <a:stretch/>
        </p:blipFill>
        <p:spPr>
          <a:xfrm>
            <a:off x="5003640" y="2133720"/>
            <a:ext cx="26686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etwor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987640" y="1773360"/>
            <a:ext cx="2879640" cy="1224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179280" y="31417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sigma-network.ac.uk/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3" descr="sigma logo print.jpeg"/>
          <p:cNvPicPr/>
          <p:nvPr/>
        </p:nvPicPr>
        <p:blipFill>
          <a:blip r:embed="rId2"/>
          <a:stretch/>
        </p:blipFill>
        <p:spPr>
          <a:xfrm>
            <a:off x="5935680" y="6093000"/>
            <a:ext cx="32115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Resources &amp; Pub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Facts, Formulae and Information Leafle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re Math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’ Facts &amp; Formul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cha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bability &amp;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ths for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ths for Chem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" descr="proba"/>
          <p:cNvPicPr/>
          <p:nvPr/>
        </p:nvPicPr>
        <p:blipFill>
          <a:blip r:embed="rId2"/>
          <a:stretch/>
        </p:blipFill>
        <p:spPr>
          <a:xfrm rot="21135000">
            <a:off x="4858920" y="1700280"/>
            <a:ext cx="1763640" cy="3598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mechanics"/>
          <p:cNvPicPr/>
          <p:nvPr/>
        </p:nvPicPr>
        <p:blipFill>
          <a:blip r:embed="rId3"/>
          <a:stretch/>
        </p:blipFill>
        <p:spPr>
          <a:xfrm rot="21135000">
            <a:off x="6587640" y="1484280"/>
            <a:ext cx="2173320" cy="35956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5286240" y="542916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ww.mathstore.ac.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sigma logo print.jpeg"/>
          <p:cNvPicPr/>
          <p:nvPr/>
        </p:nvPicPr>
        <p:blipFill>
          <a:blip r:embed="rId4"/>
          <a:stretch/>
        </p:blipFill>
        <p:spPr>
          <a:xfrm>
            <a:off x="5935680" y="6093000"/>
            <a:ext cx="32115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Resources &amp; Pub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Refresher Gu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alc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me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2700360" y="2060640"/>
            <a:ext cx="6192720" cy="384948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214200" y="550080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ww.mathstore.ac.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sigma logo print.jpeg"/>
          <p:cNvPicPr/>
          <p:nvPr/>
        </p:nvPicPr>
        <p:blipFill>
          <a:blip r:embed="rId4"/>
          <a:stretch/>
        </p:blipFill>
        <p:spPr>
          <a:xfrm>
            <a:off x="5935680" y="6093000"/>
            <a:ext cx="32115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hematics Support (onlin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th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ent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www.mathcentre.ac.uk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ath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tu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www.mathtutor.ac.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Stats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tu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www.statstutor.ac.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mathcentre"/>
          <p:cNvPicPr/>
          <p:nvPr/>
        </p:nvPicPr>
        <p:blipFill>
          <a:blip r:embed="rId7"/>
          <a:stretch/>
        </p:blipFill>
        <p:spPr>
          <a:xfrm>
            <a:off x="6588000" y="2349360"/>
            <a:ext cx="2048040" cy="3602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8"/>
          <a:stretch/>
        </p:blipFill>
        <p:spPr>
          <a:xfrm>
            <a:off x="468360" y="3716280"/>
            <a:ext cx="4174920" cy="2781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sigma logo print.jpeg"/>
          <p:cNvPicPr/>
          <p:nvPr/>
        </p:nvPicPr>
        <p:blipFill>
          <a:blip r:embed="rId9"/>
          <a:stretch/>
        </p:blipFill>
        <p:spPr>
          <a:xfrm>
            <a:off x="5935680" y="6093000"/>
            <a:ext cx="32115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Other) context based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ttp://discovermaths.rsc.org/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6010560" cy="1081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2556000" y="2133720"/>
            <a:ext cx="3944880" cy="79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sigma logo print.jpeg"/>
          <p:cNvPicPr/>
          <p:nvPr/>
        </p:nvPicPr>
        <p:blipFill>
          <a:blip r:embed="rId3"/>
          <a:stretch/>
        </p:blipFill>
        <p:spPr>
          <a:xfrm>
            <a:off x="5935680" y="6093000"/>
            <a:ext cx="32115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en educational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ocw.mit.edu/courses/mathematics/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2000" y="2781360"/>
            <a:ext cx="6540480" cy="100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sigma logo print.jpeg"/>
          <p:cNvPicPr/>
          <p:nvPr/>
        </p:nvPicPr>
        <p:blipFill>
          <a:blip r:embed="rId4"/>
          <a:stretch/>
        </p:blipFill>
        <p:spPr>
          <a:xfrm>
            <a:off x="5935680" y="6093000"/>
            <a:ext cx="32115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nline glossari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tats.gla.ac.uk/steps/glossary/alphabet.html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s://oldwww.math.ucdavis.edu/glossary.htm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4508640"/>
            <a:ext cx="2543040" cy="733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08360" y="2133720"/>
            <a:ext cx="1368360" cy="900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sigma logo print.jpeg"/>
          <p:cNvPicPr/>
          <p:nvPr/>
        </p:nvPicPr>
        <p:blipFill>
          <a:blip r:embed="rId7"/>
          <a:stretch/>
        </p:blipFill>
        <p:spPr>
          <a:xfrm>
            <a:off x="5935680" y="6093000"/>
            <a:ext cx="32115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activity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geogebra.org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35280" y="1773360"/>
            <a:ext cx="5172120" cy="100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sigma logo print.jpeg"/>
          <p:cNvPicPr/>
          <p:nvPr/>
        </p:nvPicPr>
        <p:blipFill>
          <a:blip r:embed="rId4"/>
          <a:stretch/>
        </p:blipFill>
        <p:spPr>
          <a:xfrm>
            <a:off x="5935680" y="6093000"/>
            <a:ext cx="32115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mething useful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214280" y="2714760"/>
            <a:ext cx="6588360" cy="928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sigma logo print.jpeg"/>
          <p:cNvPicPr/>
          <p:nvPr/>
        </p:nvPicPr>
        <p:blipFill>
          <a:blip r:embed="rId2"/>
          <a:stretch/>
        </p:blipFill>
        <p:spPr>
          <a:xfrm>
            <a:off x="5935680" y="6093000"/>
            <a:ext cx="32115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2:22:30Z</dcterms:created>
  <dc:creator>Michael Grove</dc:creator>
  <dc:description/>
  <dc:language>en-US</dc:language>
  <cp:lastModifiedBy>Michael Grove</cp:lastModifiedBy>
  <cp:lastPrinted>2013-10-25T05:43:28Z</cp:lastPrinted>
  <dcterms:modified xsi:type="dcterms:W3CDTF">2014-10-05T10:35:37Z</dcterms:modified>
  <cp:revision>111</cp:revision>
  <dc:subject/>
  <dc:title>Presenting &amp; Communicating Mathematics</dc:title>
</cp:coreProperties>
</file>